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ED3-4D42-4FA3-B1AF-8589C3A6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947-AD6E-4669-B7BB-1C3CD6B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6DC-F5F2-4BBC-A11C-CE0E99FE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E6F-E561-4CA2-90E6-DEAAE790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9AB-875A-4D8E-A5C7-ECE2B627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DB0-2F40-47CE-B6AD-30570848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9C9-348C-4EC6-8652-0526E95A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A43-6038-4F3B-A192-E553A192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560-2EB9-401F-894B-610A7E5A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8C4-DEB0-4E75-89AF-A60D579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336-22A4-4999-A888-462872D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EFC-7FA2-458E-87ED-1DF1CFB7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F8C-FA23-42BD-BBA5-CE8C34B93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4920" y="304920"/>
            <a:ext cx="624816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4920" y="3200400"/>
            <a:ext cx="624816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04920" y="6095880"/>
            <a:ext cx="624816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152280" y="2286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152280" y="304812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152280" y="59436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990720" y="22860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me del Voki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voro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si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066680" y="327672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me del Voki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voro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si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990720" y="609588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me del Voki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voro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si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"/>
          <p:cNvSpPr/>
          <p:nvPr/>
        </p:nvSpPr>
        <p:spPr>
          <a:xfrm>
            <a:off x="5791320" y="152280"/>
            <a:ext cx="914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 rot="5400000">
            <a:off x="2912040" y="4867920"/>
            <a:ext cx="72388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colta I voki e scopri che dicono (Listen to the Voki and find out what they s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28600" y="228600"/>
            <a:ext cx="6477120" cy="412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 piace and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(I like to g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al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iocare a 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 stadio di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sa di a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re 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80880" y="1447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380880" y="1905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088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80880" y="2743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8088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380880" y="3505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80880" y="3886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6"/>
          <p:cNvGrpSpPr/>
          <p:nvPr/>
        </p:nvGrpSpPr>
        <p:grpSpPr>
          <a:xfrm>
            <a:off x="533520" y="4952880"/>
            <a:ext cx="1676160" cy="2819520"/>
            <a:chOff x="533520" y="4952880"/>
            <a:chExt cx="1676160" cy="2819520"/>
          </a:xfrm>
        </p:grpSpPr>
        <p:sp>
          <p:nvSpPr>
            <p:cNvPr id="61" name="Oval 20"/>
            <p:cNvSpPr/>
            <p:nvPr/>
          </p:nvSpPr>
          <p:spPr>
            <a:xfrm>
              <a:off x="914400" y="4952880"/>
              <a:ext cx="838080" cy="83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1371600" y="5790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762120" y="609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2"/>
            <p:cNvSpPr/>
            <p:nvPr/>
          </p:nvSpPr>
          <p:spPr>
            <a:xfrm flipH="1">
              <a:off x="838080" y="70102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3"/>
            <p:cNvSpPr/>
            <p:nvPr/>
          </p:nvSpPr>
          <p:spPr>
            <a:xfrm>
              <a:off x="1371600" y="70102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4"/>
            <p:cNvSpPr/>
            <p:nvPr/>
          </p:nvSpPr>
          <p:spPr>
            <a:xfrm>
              <a:off x="533520" y="7772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5"/>
            <p:cNvSpPr/>
            <p:nvPr/>
          </p:nvSpPr>
          <p:spPr>
            <a:xfrm>
              <a:off x="1905120" y="7772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37"/>
          <p:cNvSpPr/>
          <p:nvPr/>
        </p:nvSpPr>
        <p:spPr>
          <a:xfrm>
            <a:off x="243828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2438280" y="5562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243828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0"/>
          <p:cNvSpPr/>
          <p:nvPr/>
        </p:nvSpPr>
        <p:spPr>
          <a:xfrm>
            <a:off x="2438280" y="64771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2438280" y="69343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2438280" y="7391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2438280" y="7848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4"/>
          <p:cNvSpPr/>
          <p:nvPr/>
        </p:nvSpPr>
        <p:spPr>
          <a:xfrm>
            <a:off x="2438280" y="8305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5"/>
          <p:cNvSpPr/>
          <p:nvPr/>
        </p:nvSpPr>
        <p:spPr>
          <a:xfrm>
            <a:off x="5791320" y="152280"/>
            <a:ext cx="914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6"/>
          <p:cNvSpPr/>
          <p:nvPr/>
        </p:nvSpPr>
        <p:spPr>
          <a:xfrm rot="5400000">
            <a:off x="2835720" y="4791600"/>
            <a:ext cx="7238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pri come dire dove ti piace andare e scrivilo – poi scrivi chi se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Find out how to say where you like to go and write it down. Then write your own charac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28600"/>
            <a:ext cx="6477120" cy="412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 piace and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(I like to g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al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iocare a 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 stadio di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sa di a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re 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380880" y="1447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80880" y="1905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8088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80880" y="2743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8088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380880" y="3505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380880" y="3886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609480" y="5410080"/>
            <a:ext cx="1155600" cy="3200400"/>
            <a:chOff x="609480" y="5410080"/>
            <a:chExt cx="1155600" cy="3200400"/>
          </a:xfrm>
        </p:grpSpPr>
        <p:sp>
          <p:nvSpPr>
            <p:cNvPr id="87" name="Oval 11"/>
            <p:cNvSpPr/>
            <p:nvPr/>
          </p:nvSpPr>
          <p:spPr>
            <a:xfrm>
              <a:off x="761760" y="5410080"/>
              <a:ext cx="838440" cy="83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>
              <a:off x="1218960" y="624816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609480" y="6629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4"/>
            <p:cNvSpPr/>
            <p:nvPr/>
          </p:nvSpPr>
          <p:spPr>
            <a:xfrm>
              <a:off x="990360" y="8001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>
              <a:off x="1447560" y="8001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>
              <a:off x="609480" y="7111800"/>
              <a:ext cx="1155600" cy="965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>
              <a:off x="761760" y="8610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8"/>
            <p:cNvSpPr/>
            <p:nvPr/>
          </p:nvSpPr>
          <p:spPr>
            <a:xfrm>
              <a:off x="1447560" y="8610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27"/>
          <p:cNvSpPr/>
          <p:nvPr/>
        </p:nvSpPr>
        <p:spPr>
          <a:xfrm>
            <a:off x="24382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2438280" y="6095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438280" y="6553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2438280" y="70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2438280" y="7467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2438280" y="7924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2438280" y="8381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2438280" y="8839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5"/>
          <p:cNvSpPr/>
          <p:nvPr/>
        </p:nvSpPr>
        <p:spPr>
          <a:xfrm>
            <a:off x="5791320" y="152280"/>
            <a:ext cx="914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 rot="5400000">
            <a:off x="2835720" y="4791600"/>
            <a:ext cx="7238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pri come dire dove ti piace andare e scrivilo – poi scrivi chi se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Find out how to say where you like to go and write it down. Then write your own charac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2:44:37Z</dcterms:created>
  <dc:creator>Home</dc:creator>
  <dc:description/>
  <dc:language>en-US</dc:language>
  <cp:lastModifiedBy>Valeria Palladino</cp:lastModifiedBy>
  <dcterms:modified xsi:type="dcterms:W3CDTF">2011-02-18T15:51:46Z</dcterms:modified>
  <cp:revision>6</cp:revision>
  <dc:subject/>
  <dc:title>Slide 1</dc:title>
</cp:coreProperties>
</file>